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19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F058-F77F-43F6-8C8A-732CA0919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E87B-92AB-4C20-B005-D6B824C1A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6D09B8-26B9-43C9-987B-70CDBDDFD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979FE7-21A7-4443-AA17-A4D86DEF8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79EB1A-E8F4-4E58-9344-363B845FB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4FE042-6758-4C10-A958-0EAACBCAE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9F0447-B237-41D8-89B4-40B9B8B6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69B3CE-5D1A-4343-A5E7-7907FE64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FE1FD4-6410-42DF-A3BE-EDB18B551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2ACA64-2960-4A98-BF1B-14D2E66FC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39ED9B-2551-41E3-9F13-8CFC893B3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D5085B-8180-4DCE-ABA5-C50545B1E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0336-76D0-4DE4-A3CB-25A9DFD33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CEFDFC-1ADA-4E72-BE62-9A7803A95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DF27B2-8727-4CA3-96B7-E048F7C87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F9B856-6188-4273-AC26-8D5AC298C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E2C0C1-F304-4B53-AE22-BEA71A8A1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C123DC-EF30-4EEC-97A9-680418001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76965E-F247-4BB4-B80D-3DFF0F05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9E2664-4243-4597-90C1-90FE66A71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5EFE6D-F1FC-46BE-9B6D-C6C14F559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B545E1-9002-4926-B2CD-9232E1843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9C3DBD-100A-4D81-A766-555913A87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3986-6B03-4EA2-A7AC-CB384C089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93FCCB-19D1-40EC-8BF5-6FE3D20DC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631BFC-EC8A-49AA-8789-7936656DE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37A38D-C119-4484-A462-E42DD135C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7788EA-BE87-4B7D-9E48-F4A97EFDE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474BDA-33D4-4B31-9819-4E538857B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79D5C0-8AA6-491B-9029-158B16995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CEA80D-BFCC-4F6D-A03F-2AFDD331E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5D54F1-ABFE-403A-AC78-B0AE5B6B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F38C98-B189-4E61-A3F2-D564793D3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E0E2A7-1B50-45EA-BC0C-33C8ED67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B64F6-9A34-49BC-8A26-F52F54FB5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B00636-56C5-4E6D-87B2-5B1C711AA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0DBE5F-F2DA-41D1-9E5F-0B41A6EE0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B47966-8FD4-4289-82FA-22B45CB54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D8515-EDFA-40D3-8C74-D750B5C9F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E849C-A489-4C2F-98F9-47AAE12AE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54681-DDD6-453A-BE52-70EC9CA2A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7832C-87BF-4F50-8672-7976233AA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8FC09-70E1-4744-BCF5-C99FC1627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8F4C0-C882-40F2-80EE-027C8F27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C7C9-7A84-4B1A-9EF0-48C13643B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A1537-829C-49C5-AA6E-3D1CF8960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F2F98-4884-4146-8D3E-AB73EC78F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2B0C4-B70F-4C43-AD83-3C8CE57D3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2499C-A240-40D1-A99A-56F8011DC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DAD88-F5E4-4219-A2AE-1CA76F230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DF9AE-1136-4296-94F1-E8AC71EDC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AD6A6-EDC4-4337-A228-E7EAE414C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8CE0F-B93B-4F0C-9C54-5220AB71E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A713C-6AFE-4744-960F-DD5B2F11C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AC0FC-742E-442A-B827-3DB459660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18A7-90EE-45B3-AAC9-6B56294C5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971A9-4ECA-43EC-B8A6-1EB9293EF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F6A61-02F4-4BD3-8E83-FAF5FD16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CB5D4-AFF2-44AA-BBA6-A564C46C7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1B9A7-2948-4301-9153-7F70F6B3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3C5F8-CCC1-4C35-A41E-0D3C6A2B2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B6581-B0E5-4F58-AADE-7DC413C38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A9C4F-42AF-4726-AE98-D54D42938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D7ED3-0BA9-4D10-8112-8DA8784EE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DB00F-1197-4BF6-8840-49A425776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2CA58-E3D1-40F3-8EBC-A37E072F8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D360-E06F-4A41-A34D-ACCFD9F44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86729-4381-4F6B-95C3-EDDF2B2B4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0BC97-2F13-4007-9089-03435E755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548A7-61A3-4A64-BF29-0E66F2182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4F878-6C41-4BF6-B7B2-F01F9665B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BDA4C-0489-4AD9-BA00-ED61D73B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949C7-8C9E-42D8-8010-9B6164D7D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A18EB-DF62-4699-B099-6657D29F5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A39AD-AF04-4713-8B4C-E047E0289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8B098-D44F-4924-A5B8-3DA7CD268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C42E99-0A51-4974-9F75-46B55991B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5EEE-A3CA-42C3-ADF0-9EA0124C1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6D9E3-BDFD-4F3C-8B21-F019B3991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47D81-BD1B-45EC-9DC7-8C3B57ED3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D14433-572E-44CA-A293-6B3A04BB7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96B3C7-8187-4ED4-9CE2-E26251547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D36B1A-01F9-43AB-B1D6-CA268F202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8B87D-BAAF-4E47-932F-00CEC617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1B900-381A-4998-81A9-B6F620AB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B0259-ADCA-4B52-87D7-9A77CF332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AB50D3-BEB2-450A-81A2-9B5448D3B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33E18-8F79-4D07-99F3-E4F7A5A2A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E098-8A78-4D58-BC2A-69656A89D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5E243C-6EBE-4B6C-90D1-E8171A3D2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6B6143-7A99-4BD5-9B40-BAE636347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A2E4F7-9A68-4C6D-8566-AF458D130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A10EB-9137-4BEA-9C6F-859F0CEBC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05AAAD-E348-4D31-8608-13F7D86BB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A4B8CB-33C4-4077-80E5-EA3CA4C15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69B550-58FF-4C2A-83CC-2EC69C953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54C3C5-5505-4F2B-B356-1CE00BDF6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CA1C6B-FDE9-4287-8AE7-A7390B9CE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2E799A-E53E-42B7-9670-3F96A94C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CDE9-6C01-4CF6-A926-E1514902A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5ECA57-4B7B-4328-B351-A93636E0B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57F972-9E40-4383-97DD-D339329E2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E28939-B41D-45C6-B8AE-AFAE83E91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FF97E0-E566-4A48-B462-3A728E2DE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042EE0-5A12-4103-930D-F06F214CC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311F81-A17D-4B6F-81BC-FDBD895BE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C10EFD-490F-4318-B34B-F899C7CF9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E29F74-683B-4CC7-B4E8-6CEB3B3B1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0C37AE-FE61-41B2-9F33-097C52E1C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B1C2AD-63FF-4AD7-A347-61CB7F649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BD29-8F7A-4F9D-B4F6-386C609E1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0CA2D5-6CBC-4B7E-80AF-59A5D89D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0AE904-FA42-4477-82DF-28F4C9579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75A01A-2879-43C5-A1FA-315C86280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B538B5-A2B5-421C-8DE1-6581C0143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DB768E-9B7C-485F-AB4E-7AF9C760F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7F337C-85CD-4D3F-871E-1FB4E89E1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448FDA-C1C3-41AA-B027-171A10959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5DF1D7-95AA-433A-B2E9-67636D6ED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696D77-ECCE-4549-937D-85DD12B89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C8C370-DBBE-4CA5-847E-C278D3416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B9C3-5921-4652-AA66-725C5386F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1971D5-52A3-413A-BD52-C9B190616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DAB9C2-1779-46D8-B4CC-CA0CC33F4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87E89D-3702-4B52-BBD7-2A8388DD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03107E-AB40-4113-9735-780B2B682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265E04-ABDB-4017-8192-EED02BFD6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907E6F-1D46-4B99-96BE-10208AAC7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6565E2-8569-4499-86E3-D78A315A5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E77238-237C-4009-86B1-DC3223AD2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12D665-857F-4B96-A087-5B7CB5B19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9D47AF-D816-4D0D-BCA6-7714FAD0C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62E0FE-9BD7-496D-BDFF-4329785CDAC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8A735D-3F47-4621-9A4C-35D0A86ADA8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398CD8-CFAF-423D-B112-BBEC9CAED93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4617CA-B46F-4F88-8007-385ED330C84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341E6F-1F6C-444D-9445-E7312B5EAA0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761A3F-2ED9-417C-9FC3-F24478AC959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297061-6DAF-4BEE-8FA4-0A8FB0E6917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29ACE5-5FE0-4C03-B07B-3FED91F40FE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761764-E2D2-458D-9F59-7BF50EFBEDA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78E6D0-3F35-4800-966E-CF673FF334E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0C4AFA-33D4-446A-B6F1-51B35420126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8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9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矩形 19"/>
          <p:cNvSpPr/>
          <p:nvPr/>
        </p:nvSpPr>
        <p:spPr>
          <a:xfrm>
            <a:off x="0" y="0"/>
            <a:ext cx="925524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11111111111111111111111111111111111111111111111111111111111111111111111111111111111111111111111111111111111111111111111111111111111111111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图片 24" descr="小花.png"/>
          <p:cNvPicPr/>
          <p:nvPr/>
        </p:nvPicPr>
        <p:blipFill>
          <a:blip r:embed="rId1"/>
          <a:stretch/>
        </p:blipFill>
        <p:spPr>
          <a:xfrm rot="1153200">
            <a:off x="7737120" y="5291280"/>
            <a:ext cx="1009800" cy="988920"/>
          </a:xfrm>
          <a:prstGeom prst="rect">
            <a:avLst/>
          </a:prstGeom>
          <a:ln w="0">
            <a:noFill/>
          </a:ln>
        </p:spPr>
      </p:pic>
      <p:pic>
        <p:nvPicPr>
          <p:cNvPr id="453" name="图片 25" descr="中间花.png"/>
          <p:cNvPicPr/>
          <p:nvPr/>
        </p:nvPicPr>
        <p:blipFill>
          <a:blip r:embed="rId2"/>
          <a:stretch/>
        </p:blipFill>
        <p:spPr>
          <a:xfrm>
            <a:off x="3103560" y="5446800"/>
            <a:ext cx="912960" cy="722160"/>
          </a:xfrm>
          <a:prstGeom prst="rect">
            <a:avLst/>
          </a:prstGeom>
          <a:ln w="0">
            <a:noFill/>
          </a:ln>
        </p:spPr>
      </p:pic>
      <p:pic>
        <p:nvPicPr>
          <p:cNvPr id="454" name="AutoShape 508" descr=""/>
          <p:cNvPicPr/>
          <p:nvPr/>
        </p:nvPicPr>
        <p:blipFill>
          <a:blip r:embed="rId3"/>
          <a:stretch/>
        </p:blipFill>
        <p:spPr>
          <a:xfrm>
            <a:off x="495360" y="1060560"/>
            <a:ext cx="8153280" cy="2165400"/>
          </a:xfrm>
          <a:prstGeom prst="rect">
            <a:avLst/>
          </a:prstGeom>
          <a:ln w="0">
            <a:noFill/>
          </a:ln>
        </p:spPr>
      </p:pic>
      <p:sp>
        <p:nvSpPr>
          <p:cNvPr id="455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6" y="0"/>
                </a:lnTo>
                <a:cubicBezTo>
                  <a:pt x="8096775" y="0"/>
                  <a:pt x="8153399" y="56624"/>
                  <a:pt x="8153399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39" descr="구름"/>
          <p:cNvPicPr/>
          <p:nvPr/>
        </p:nvPicPr>
        <p:blipFill>
          <a:blip r:embed="rId4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40" descr="구름"/>
          <p:cNvPicPr/>
          <p:nvPr/>
        </p:nvPicPr>
        <p:blipFill>
          <a:blip r:embed="rId5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458" name="TextBox 3"/>
          <p:cNvSpPr/>
          <p:nvPr/>
        </p:nvSpPr>
        <p:spPr>
          <a:xfrm>
            <a:off x="1814400" y="1503360"/>
            <a:ext cx="5626080" cy="7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Unit 2 At H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Box 4"/>
          <p:cNvSpPr/>
          <p:nvPr/>
        </p:nvSpPr>
        <p:spPr>
          <a:xfrm>
            <a:off x="3521160" y="2644920"/>
            <a:ext cx="272232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JJ   </a:t>
            </a:r>
            <a:r>
              <a:rPr b="1" lang="zh-CN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四年级上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图片 70" descr="蝴蝶.png"/>
          <p:cNvPicPr/>
          <p:nvPr/>
        </p:nvPicPr>
        <p:blipFill>
          <a:blip r:embed="rId6"/>
          <a:stretch/>
        </p:blipFill>
        <p:spPr>
          <a:xfrm flipH="1" rot="18291600">
            <a:off x="6586560" y="3549960"/>
            <a:ext cx="1019160" cy="1103400"/>
          </a:xfrm>
          <a:prstGeom prst="rect">
            <a:avLst/>
          </a:prstGeom>
          <a:ln w="0">
            <a:noFill/>
          </a:ln>
        </p:spPr>
      </p:pic>
      <p:pic>
        <p:nvPicPr>
          <p:cNvPr id="461" name="AutoShape 508" descr=""/>
          <p:cNvPicPr/>
          <p:nvPr/>
        </p:nvPicPr>
        <p:blipFill>
          <a:blip r:embed="rId7"/>
          <a:stretch/>
        </p:blipFill>
        <p:spPr>
          <a:xfrm>
            <a:off x="457200" y="1022400"/>
            <a:ext cx="8229600" cy="224136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50" descr="나뭇잎2"/>
          <p:cNvPicPr/>
          <p:nvPr/>
        </p:nvPicPr>
        <p:blipFill>
          <a:blip r:embed="rId8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sp>
        <p:nvSpPr>
          <p:cNvPr id="463" name="椭圆 8"/>
          <p:cNvSpPr/>
          <p:nvPr/>
        </p:nvSpPr>
        <p:spPr>
          <a:xfrm>
            <a:off x="328680" y="133524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椭圆 82"/>
          <p:cNvSpPr/>
          <p:nvPr/>
        </p:nvSpPr>
        <p:spPr>
          <a:xfrm>
            <a:off x="328680" y="1976400"/>
            <a:ext cx="334800" cy="33516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椭圆 85"/>
          <p:cNvSpPr/>
          <p:nvPr/>
        </p:nvSpPr>
        <p:spPr>
          <a:xfrm>
            <a:off x="328680" y="261792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椭圆 88"/>
          <p:cNvSpPr/>
          <p:nvPr/>
        </p:nvSpPr>
        <p:spPr>
          <a:xfrm>
            <a:off x="8480520" y="133524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椭圆 96"/>
          <p:cNvSpPr/>
          <p:nvPr/>
        </p:nvSpPr>
        <p:spPr>
          <a:xfrm>
            <a:off x="8480520" y="1976400"/>
            <a:ext cx="334800" cy="33516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椭圆 97"/>
          <p:cNvSpPr/>
          <p:nvPr/>
        </p:nvSpPr>
        <p:spPr>
          <a:xfrm>
            <a:off x="8480520" y="261792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文本框 22" descr=""/>
          <p:cNvPicPr/>
          <p:nvPr/>
        </p:nvPicPr>
        <p:blipFill>
          <a:blip r:embed="rId9"/>
          <a:stretch/>
        </p:blipFill>
        <p:spPr>
          <a:xfrm>
            <a:off x="2448000" y="4484520"/>
            <a:ext cx="7076880" cy="7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560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Picture 12" descr="C:\Users\Administrator\Desktop\枫叶副本.gif"/>
          <p:cNvPicPr/>
          <p:nvPr/>
        </p:nvPicPr>
        <p:blipFill>
          <a:blip r:embed="rId2"/>
          <a:stretch/>
        </p:blipFill>
        <p:spPr>
          <a:xfrm>
            <a:off x="8726400" y="7456320"/>
            <a:ext cx="439920" cy="420840"/>
          </a:xfrm>
          <a:prstGeom prst="rect">
            <a:avLst/>
          </a:prstGeom>
          <a:ln w="0">
            <a:noFill/>
          </a:ln>
        </p:spPr>
      </p:pic>
      <p:pic>
        <p:nvPicPr>
          <p:cNvPr id="563" name="图片 18" descr=""/>
          <p:cNvPicPr/>
          <p:nvPr/>
        </p:nvPicPr>
        <p:blipFill>
          <a:blip r:embed="rId3"/>
          <a:stretch/>
        </p:blipFill>
        <p:spPr>
          <a:xfrm>
            <a:off x="763560" y="1239840"/>
            <a:ext cx="324000" cy="368280"/>
          </a:xfrm>
          <a:prstGeom prst="rect">
            <a:avLst/>
          </a:prstGeom>
          <a:ln w="0">
            <a:noFill/>
          </a:ln>
        </p:spPr>
      </p:pic>
      <p:sp>
        <p:nvSpPr>
          <p:cNvPr id="564" name="矩形 16"/>
          <p:cNvSpPr/>
          <p:nvPr/>
        </p:nvSpPr>
        <p:spPr>
          <a:xfrm>
            <a:off x="1185480" y="108900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拓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矩形 2"/>
          <p:cNvSpPr/>
          <p:nvPr/>
        </p:nvSpPr>
        <p:spPr>
          <a:xfrm>
            <a:off x="1884240" y="1087560"/>
            <a:ext cx="317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辨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atc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oo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6" name=""/>
          <p:cNvGraphicFramePr/>
          <p:nvPr/>
        </p:nvGraphicFramePr>
        <p:xfrm>
          <a:off x="939960" y="1776240"/>
          <a:ext cx="7462800" cy="4479840"/>
        </p:xfrm>
        <a:graphic>
          <a:graphicData uri="http://schemas.openxmlformats.org/drawingml/2006/table">
            <a:tbl>
              <a:tblPr/>
              <a:tblGrid>
                <a:gridCol w="966960"/>
                <a:gridCol w="1434960"/>
                <a:gridCol w="2097000"/>
                <a:gridCol w="2963880"/>
              </a:tblGrid>
              <a:tr h="640440"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词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用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例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5560"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wat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看；注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watch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强调聚精会神地看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They are watching a TV play.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他们在看一部电视剧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640"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loo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look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强调看的动作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Look out of the window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！朝窗外看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6200"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se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看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see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强调看到的结果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I see a sheep.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我看见一只绵羊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568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组合 16"/>
          <p:cNvGrpSpPr/>
          <p:nvPr/>
        </p:nvGrpSpPr>
        <p:grpSpPr>
          <a:xfrm>
            <a:off x="766800" y="2189160"/>
            <a:ext cx="1244520" cy="459720"/>
            <a:chOff x="766800" y="2189160"/>
            <a:chExt cx="1244520" cy="459720"/>
          </a:xfrm>
        </p:grpSpPr>
        <p:sp>
          <p:nvSpPr>
            <p:cNvPr id="571" name="TextBox 3"/>
            <p:cNvSpPr/>
            <p:nvPr/>
          </p:nvSpPr>
          <p:spPr>
            <a:xfrm>
              <a:off x="1019520" y="2189160"/>
              <a:ext cx="99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典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2" name="图片 29" descr="花盆.png"/>
            <p:cNvPicPr/>
            <p:nvPr/>
          </p:nvPicPr>
          <p:blipFill>
            <a:blip r:embed="rId2"/>
            <a:stretch/>
          </p:blipFill>
          <p:spPr>
            <a:xfrm>
              <a:off x="766800" y="2227680"/>
              <a:ext cx="324000" cy="36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3" name="矩形 2"/>
          <p:cNvSpPr/>
          <p:nvPr/>
        </p:nvSpPr>
        <p:spPr>
          <a:xfrm>
            <a:off x="1878120" y="1951200"/>
            <a:ext cx="714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e is ________ a football match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足球比赛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look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. watch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. see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20"/>
          <p:cNvSpPr/>
          <p:nvPr/>
        </p:nvSpPr>
        <p:spPr>
          <a:xfrm>
            <a:off x="3063960" y="219852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Box 4"/>
          <p:cNvSpPr/>
          <p:nvPr/>
        </p:nvSpPr>
        <p:spPr>
          <a:xfrm>
            <a:off x="893880" y="3470400"/>
            <a:ext cx="7567560" cy="6426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点拨</a:t>
            </a:r>
            <a:r>
              <a:rPr b="1" lang="zh-CN" sz="2400" spc="-1" strike="noStrike">
                <a:solidFill>
                  <a:srgbClr val="ff0000"/>
                </a:solidFill>
                <a:latin typeface="Adobe 黑体 Std R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矩形 27"/>
          <p:cNvSpPr/>
          <p:nvPr/>
        </p:nvSpPr>
        <p:spPr>
          <a:xfrm>
            <a:off x="1768320" y="3438360"/>
            <a:ext cx="66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watch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强调聚精会神地看，符合题意。故选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B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1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dur="indefinite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4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578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Box 8"/>
          <p:cNvSpPr/>
          <p:nvPr/>
        </p:nvSpPr>
        <p:spPr>
          <a:xfrm>
            <a:off x="2644920" y="2079720"/>
            <a:ext cx="5757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is is a TV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这是一台电视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V show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电视节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信息技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V →television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完全形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矩形 2"/>
          <p:cNvSpPr/>
          <p:nvPr/>
        </p:nvSpPr>
        <p:spPr>
          <a:xfrm>
            <a:off x="1650960" y="2314440"/>
            <a:ext cx="90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Box 8"/>
          <p:cNvSpPr/>
          <p:nvPr/>
        </p:nvSpPr>
        <p:spPr>
          <a:xfrm>
            <a:off x="2181240" y="1455840"/>
            <a:ext cx="563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/ˌtiː'viː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n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名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电视；电视机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四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矩形 1"/>
          <p:cNvSpPr/>
          <p:nvPr/>
        </p:nvSpPr>
        <p:spPr>
          <a:xfrm>
            <a:off x="1095480" y="4533840"/>
            <a:ext cx="14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词形变化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Picture 18" descr=""/>
          <p:cNvPicPr/>
          <p:nvPr/>
        </p:nvPicPr>
        <p:blipFill>
          <a:blip r:embed="rId2"/>
          <a:stretch/>
        </p:blipFill>
        <p:spPr>
          <a:xfrm>
            <a:off x="1339920" y="1549440"/>
            <a:ext cx="857160" cy="561960"/>
          </a:xfrm>
          <a:prstGeom prst="rect">
            <a:avLst/>
          </a:prstGeom>
          <a:ln w="0">
            <a:noFill/>
          </a:ln>
        </p:spPr>
      </p:pic>
      <p:sp>
        <p:nvSpPr>
          <p:cNvPr id="585" name="矩形 2"/>
          <p:cNvSpPr/>
          <p:nvPr/>
        </p:nvSpPr>
        <p:spPr>
          <a:xfrm>
            <a:off x="1650960" y="3081240"/>
            <a:ext cx="90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短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矩形 2"/>
          <p:cNvSpPr/>
          <p:nvPr/>
        </p:nvSpPr>
        <p:spPr>
          <a:xfrm>
            <a:off x="1357200" y="3778200"/>
            <a:ext cx="11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形近词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Box 8"/>
          <p:cNvSpPr/>
          <p:nvPr/>
        </p:nvSpPr>
        <p:spPr>
          <a:xfrm>
            <a:off x="3006720" y="5024520"/>
            <a:ext cx="293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电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节目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组合 2"/>
          <p:cNvGrpSpPr/>
          <p:nvPr/>
        </p:nvGrpSpPr>
        <p:grpSpPr>
          <a:xfrm>
            <a:off x="1157400" y="5133960"/>
            <a:ext cx="2403360" cy="459720"/>
            <a:chOff x="1157400" y="5133960"/>
            <a:chExt cx="2403360" cy="459720"/>
          </a:xfrm>
        </p:grpSpPr>
        <p:sp>
          <p:nvSpPr>
            <p:cNvPr id="589" name="TextBox 10"/>
            <p:cNvSpPr/>
            <p:nvPr/>
          </p:nvSpPr>
          <p:spPr>
            <a:xfrm>
              <a:off x="1473120" y="5133960"/>
              <a:ext cx="208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魔法记忆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0" name="图片 29" descr="花盆.png"/>
            <p:cNvPicPr/>
            <p:nvPr/>
          </p:nvPicPr>
          <p:blipFill>
            <a:blip r:embed="rId3"/>
            <a:stretch/>
          </p:blipFill>
          <p:spPr>
            <a:xfrm>
              <a:off x="1157400" y="5181480"/>
              <a:ext cx="323640" cy="3690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592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Box 8"/>
          <p:cNvSpPr/>
          <p:nvPr/>
        </p:nvSpPr>
        <p:spPr>
          <a:xfrm>
            <a:off x="2108160" y="1827360"/>
            <a:ext cx="5759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read a book after dinn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在晚饭后读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for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之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fter school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放学后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fter class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下课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fter work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下班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矩形 2"/>
          <p:cNvSpPr/>
          <p:nvPr/>
        </p:nvSpPr>
        <p:spPr>
          <a:xfrm>
            <a:off x="1114560" y="2062080"/>
            <a:ext cx="90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Box 8"/>
          <p:cNvSpPr/>
          <p:nvPr/>
        </p:nvSpPr>
        <p:spPr>
          <a:xfrm>
            <a:off x="2149560" y="1203480"/>
            <a:ext cx="563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/'ɑːftə/ prep.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介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在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……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矩形 2"/>
          <p:cNvSpPr/>
          <p:nvPr/>
        </p:nvSpPr>
        <p:spPr>
          <a:xfrm>
            <a:off x="1082520" y="4295880"/>
            <a:ext cx="9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短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矩形 2"/>
          <p:cNvSpPr/>
          <p:nvPr/>
        </p:nvSpPr>
        <p:spPr>
          <a:xfrm>
            <a:off x="820800" y="35575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对应词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Picture 2" descr=""/>
          <p:cNvPicPr/>
          <p:nvPr/>
        </p:nvPicPr>
        <p:blipFill>
          <a:blip r:embed="rId2"/>
          <a:stretch/>
        </p:blipFill>
        <p:spPr>
          <a:xfrm>
            <a:off x="870120" y="1311120"/>
            <a:ext cx="1342800" cy="56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601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Box 8"/>
          <p:cNvSpPr/>
          <p:nvPr/>
        </p:nvSpPr>
        <p:spPr>
          <a:xfrm>
            <a:off x="2533680" y="2079720"/>
            <a:ext cx="5759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at do you have for dinner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你晚餐吃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upper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晚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at/ have dinner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吃晚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矩形 2"/>
          <p:cNvSpPr/>
          <p:nvPr/>
        </p:nvSpPr>
        <p:spPr>
          <a:xfrm>
            <a:off x="1461960" y="2314440"/>
            <a:ext cx="90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Box 8"/>
          <p:cNvSpPr/>
          <p:nvPr/>
        </p:nvSpPr>
        <p:spPr>
          <a:xfrm>
            <a:off x="2228760" y="1455840"/>
            <a:ext cx="563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/ꞌdɪnə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n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名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晚餐；主餐，正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2"/>
          <p:cNvSpPr/>
          <p:nvPr/>
        </p:nvSpPr>
        <p:spPr>
          <a:xfrm>
            <a:off x="1508040" y="4548240"/>
            <a:ext cx="9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短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矩形 2"/>
          <p:cNvSpPr/>
          <p:nvPr/>
        </p:nvSpPr>
        <p:spPr>
          <a:xfrm>
            <a:off x="1216080" y="3794040"/>
            <a:ext cx="11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近义词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Picture 2" descr=""/>
          <p:cNvPicPr/>
          <p:nvPr/>
        </p:nvPicPr>
        <p:blipFill>
          <a:blip r:embed="rId2"/>
          <a:stretch/>
        </p:blipFill>
        <p:spPr>
          <a:xfrm>
            <a:off x="947880" y="1557360"/>
            <a:ext cx="1352520" cy="590400"/>
          </a:xfrm>
          <a:prstGeom prst="rect">
            <a:avLst/>
          </a:prstGeom>
          <a:ln w="0">
            <a:noFill/>
          </a:ln>
        </p:spPr>
      </p:pic>
      <p:sp>
        <p:nvSpPr>
          <p:cNvPr id="609" name="矩形 1"/>
          <p:cNvSpPr/>
          <p:nvPr/>
        </p:nvSpPr>
        <p:spPr>
          <a:xfrm>
            <a:off x="1035720" y="52182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黑体"/>
              </a:rPr>
              <a:t>联想记忆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矩形 1"/>
          <p:cNvSpPr/>
          <p:nvPr/>
        </p:nvSpPr>
        <p:spPr>
          <a:xfrm>
            <a:off x="2486160" y="5087880"/>
            <a:ext cx="62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reakfas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早餐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unch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午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6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6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612" name="文本框 17"/>
          <p:cNvSpPr/>
          <p:nvPr/>
        </p:nvSpPr>
        <p:spPr>
          <a:xfrm>
            <a:off x="2934360" y="1392120"/>
            <a:ext cx="4174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What do you do at home?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你在家做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圆角矩形 18"/>
          <p:cNvSpPr/>
          <p:nvPr/>
        </p:nvSpPr>
        <p:spPr>
          <a:xfrm>
            <a:off x="736560" y="1463760"/>
            <a:ext cx="177804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文本框 19"/>
          <p:cNvSpPr/>
          <p:nvPr/>
        </p:nvSpPr>
        <p:spPr>
          <a:xfrm>
            <a:off x="1076400" y="1469880"/>
            <a:ext cx="143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Box 8"/>
          <p:cNvSpPr/>
          <p:nvPr/>
        </p:nvSpPr>
        <p:spPr>
          <a:xfrm>
            <a:off x="1924200" y="2543040"/>
            <a:ext cx="68022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这是一个以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wha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引导的特殊疑问句。用来询问对方在某地做什么事。其中前一个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do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是助动词，无意义；后一个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do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是实义动词，表示“做”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特殊疑问词＋助动词 ＋主语＋ 动词原形＋ 其他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I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＋ 动词原形 ＋ 其他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图片 9" descr="book.gif"/>
          <p:cNvPicPr/>
          <p:nvPr/>
        </p:nvPicPr>
        <p:blipFill>
          <a:blip r:embed="rId2"/>
          <a:stretch/>
        </p:blipFill>
        <p:spPr>
          <a:xfrm>
            <a:off x="-4680" y="1336680"/>
            <a:ext cx="1087200" cy="666720"/>
          </a:xfrm>
          <a:prstGeom prst="rect">
            <a:avLst/>
          </a:prstGeom>
          <a:ln w="0">
            <a:noFill/>
          </a:ln>
        </p:spPr>
      </p:pic>
      <p:sp>
        <p:nvSpPr>
          <p:cNvPr id="619" name="矩形 1"/>
          <p:cNvSpPr/>
          <p:nvPr/>
        </p:nvSpPr>
        <p:spPr>
          <a:xfrm>
            <a:off x="1188360" y="45626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句型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矩形 2"/>
          <p:cNvSpPr/>
          <p:nvPr/>
        </p:nvSpPr>
        <p:spPr>
          <a:xfrm>
            <a:off x="1211400" y="27608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用法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Box 8"/>
          <p:cNvSpPr/>
          <p:nvPr/>
        </p:nvSpPr>
        <p:spPr>
          <a:xfrm>
            <a:off x="2330280" y="1971720"/>
            <a:ext cx="52311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/wɒtʃ/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v.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 (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动词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看；注视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[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四会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2" descr=""/>
          <p:cNvPicPr/>
          <p:nvPr/>
        </p:nvPicPr>
        <p:blipFill>
          <a:blip r:embed="rId3"/>
          <a:stretch/>
        </p:blipFill>
        <p:spPr>
          <a:xfrm>
            <a:off x="919080" y="2014560"/>
            <a:ext cx="1381320" cy="600120"/>
          </a:xfrm>
          <a:prstGeom prst="rect">
            <a:avLst/>
          </a:prstGeom>
          <a:ln w="0">
            <a:noFill/>
          </a:ln>
        </p:spPr>
      </p:pic>
      <p:sp>
        <p:nvSpPr>
          <p:cNvPr id="623" name="矩形 1"/>
          <p:cNvSpPr/>
          <p:nvPr/>
        </p:nvSpPr>
        <p:spPr>
          <a:xfrm>
            <a:off x="1182600" y="51703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答语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625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Box 8"/>
          <p:cNvSpPr/>
          <p:nvPr/>
        </p:nvSpPr>
        <p:spPr>
          <a:xfrm>
            <a:off x="1895400" y="3301920"/>
            <a:ext cx="655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read a book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t school.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对画线部分提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_ do you ________ at schoo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矩形 1"/>
          <p:cNvSpPr/>
          <p:nvPr/>
        </p:nvSpPr>
        <p:spPr>
          <a:xfrm>
            <a:off x="933480" y="19098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9" name="组合 26"/>
          <p:cNvGrpSpPr/>
          <p:nvPr/>
        </p:nvGrpSpPr>
        <p:grpSpPr>
          <a:xfrm>
            <a:off x="674640" y="3406680"/>
            <a:ext cx="1244520" cy="459720"/>
            <a:chOff x="674640" y="3406680"/>
            <a:chExt cx="1244520" cy="459720"/>
          </a:xfrm>
        </p:grpSpPr>
        <p:sp>
          <p:nvSpPr>
            <p:cNvPr id="630" name="TextBox 3"/>
            <p:cNvSpPr/>
            <p:nvPr/>
          </p:nvSpPr>
          <p:spPr>
            <a:xfrm>
              <a:off x="927360" y="3406680"/>
              <a:ext cx="99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典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1" name="图片 29" descr="花盆.png"/>
            <p:cNvPicPr/>
            <p:nvPr/>
          </p:nvPicPr>
          <p:blipFill>
            <a:blip r:embed="rId2"/>
            <a:stretch/>
          </p:blipFill>
          <p:spPr>
            <a:xfrm>
              <a:off x="674640" y="3439440"/>
              <a:ext cx="324000" cy="368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2" name="TextBox 20"/>
          <p:cNvSpPr/>
          <p:nvPr/>
        </p:nvSpPr>
        <p:spPr>
          <a:xfrm>
            <a:off x="2166840" y="3968640"/>
            <a:ext cx="338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hat                    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Box 4"/>
          <p:cNvSpPr/>
          <p:nvPr/>
        </p:nvSpPr>
        <p:spPr>
          <a:xfrm>
            <a:off x="812880" y="4594320"/>
            <a:ext cx="7913520" cy="17398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点拨</a:t>
            </a:r>
            <a:r>
              <a:rPr b="1" lang="zh-CN" sz="2400" spc="-1" strike="noStrike">
                <a:solidFill>
                  <a:srgbClr val="ff0000"/>
                </a:solidFill>
                <a:latin typeface="Adobe 黑体 Std R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矩形 22"/>
          <p:cNvSpPr/>
          <p:nvPr/>
        </p:nvSpPr>
        <p:spPr>
          <a:xfrm>
            <a:off x="1687680" y="4578480"/>
            <a:ext cx="703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根据答语及画线部分可知，用来询问对方在某地做什么事用疑问词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what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；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do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是实义动词，表示“做”。故填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What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；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do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矩形 23"/>
          <p:cNvSpPr/>
          <p:nvPr/>
        </p:nvSpPr>
        <p:spPr>
          <a:xfrm>
            <a:off x="1895400" y="1665360"/>
            <a:ext cx="702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at do you do at school?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你在学校做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clean our classroom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打扫我们的教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5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dur="indefinite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8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9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文本框 8" descr=""/>
          <p:cNvPicPr/>
          <p:nvPr/>
        </p:nvPicPr>
        <p:blipFill>
          <a:blip r:embed="rId1"/>
          <a:stretch/>
        </p:blipFill>
        <p:spPr>
          <a:xfrm>
            <a:off x="3006720" y="131760"/>
            <a:ext cx="3679920" cy="78264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17" descr=""/>
          <p:cNvPicPr/>
          <p:nvPr/>
        </p:nvPicPr>
        <p:blipFill>
          <a:blip r:embed="rId2"/>
          <a:stretch/>
        </p:blipFill>
        <p:spPr>
          <a:xfrm>
            <a:off x="5624640" y="2087640"/>
            <a:ext cx="3519360" cy="2900160"/>
          </a:xfrm>
          <a:prstGeom prst="rect">
            <a:avLst/>
          </a:prstGeom>
          <a:ln w="0">
            <a:noFill/>
          </a:ln>
        </p:spPr>
      </p:pic>
      <p:sp>
        <p:nvSpPr>
          <p:cNvPr id="638" name="TextBox 8"/>
          <p:cNvSpPr/>
          <p:nvPr/>
        </p:nvSpPr>
        <p:spPr>
          <a:xfrm>
            <a:off x="444600" y="1933560"/>
            <a:ext cx="5713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The phone is ________ the cha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电话在椅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. The ________ is ________ the bo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盒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. The ________ is ________ the des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桌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Box 18"/>
          <p:cNvSpPr/>
          <p:nvPr/>
        </p:nvSpPr>
        <p:spPr>
          <a:xfrm>
            <a:off x="2576520" y="1922400"/>
            <a:ext cx="98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u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Box 19"/>
          <p:cNvSpPr/>
          <p:nvPr/>
        </p:nvSpPr>
        <p:spPr>
          <a:xfrm>
            <a:off x="2511360" y="2495520"/>
            <a:ext cx="9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20"/>
          <p:cNvSpPr/>
          <p:nvPr/>
        </p:nvSpPr>
        <p:spPr>
          <a:xfrm>
            <a:off x="1265400" y="3024360"/>
            <a:ext cx="26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mputer         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Box 21"/>
          <p:cNvSpPr/>
          <p:nvPr/>
        </p:nvSpPr>
        <p:spPr>
          <a:xfrm>
            <a:off x="1127160" y="3600360"/>
            <a:ext cx="27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电脑                   里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Box 23"/>
          <p:cNvSpPr/>
          <p:nvPr/>
        </p:nvSpPr>
        <p:spPr>
          <a:xfrm>
            <a:off x="1558800" y="4138560"/>
            <a:ext cx="26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V                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24"/>
          <p:cNvSpPr/>
          <p:nvPr/>
        </p:nvSpPr>
        <p:spPr>
          <a:xfrm>
            <a:off x="1092240" y="4664160"/>
            <a:ext cx="27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电视                    上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Box 3"/>
          <p:cNvSpPr/>
          <p:nvPr/>
        </p:nvSpPr>
        <p:spPr>
          <a:xfrm>
            <a:off x="287280" y="1135080"/>
            <a:ext cx="28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ok and wr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图片 14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647" name="TextBox 8"/>
          <p:cNvSpPr/>
          <p:nvPr/>
        </p:nvSpPr>
        <p:spPr>
          <a:xfrm>
            <a:off x="682560" y="966960"/>
            <a:ext cx="80438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问一问，答一答。然后打“√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I talk on the phone with my frien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I play on the comput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I watch TV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I sing a so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I write a sto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I do my homewor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   √   )I read a boo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I help my mum and da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Box 1"/>
          <p:cNvSpPr/>
          <p:nvPr/>
        </p:nvSpPr>
        <p:spPr>
          <a:xfrm>
            <a:off x="4133880" y="3209760"/>
            <a:ext cx="212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 you do at ho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Box 16"/>
          <p:cNvSpPr/>
          <p:nvPr/>
        </p:nvSpPr>
        <p:spPr>
          <a:xfrm>
            <a:off x="7927920" y="3166920"/>
            <a:ext cx="163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read a boo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Picture 16" descr="C:\Users\Administrator\Desktop\图片1.png"/>
          <p:cNvPicPr/>
          <p:nvPr/>
        </p:nvPicPr>
        <p:blipFill>
          <a:blip r:embed="rId2"/>
          <a:stretch/>
        </p:blipFill>
        <p:spPr>
          <a:xfrm>
            <a:off x="3138480" y="3170160"/>
            <a:ext cx="649116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652" name="TextBox 1"/>
          <p:cNvSpPr/>
          <p:nvPr/>
        </p:nvSpPr>
        <p:spPr>
          <a:xfrm>
            <a:off x="816120" y="1095480"/>
            <a:ext cx="77374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、单项选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ily________ me________ my Engli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helps; t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. helps; wit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. help;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 I________ TV in the eve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watch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. to watc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. w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Box 2"/>
          <p:cNvSpPr/>
          <p:nvPr/>
        </p:nvSpPr>
        <p:spPr>
          <a:xfrm>
            <a:off x="2068560" y="1774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Box 3"/>
          <p:cNvSpPr/>
          <p:nvPr/>
        </p:nvSpPr>
        <p:spPr>
          <a:xfrm>
            <a:off x="1684440" y="394164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Box 4"/>
          <p:cNvSpPr/>
          <p:nvPr/>
        </p:nvSpPr>
        <p:spPr>
          <a:xfrm>
            <a:off x="860400" y="2784600"/>
            <a:ext cx="7866000" cy="11912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点拨</a:t>
            </a:r>
            <a:r>
              <a:rPr b="1" lang="zh-CN" sz="2400" spc="-1" strike="noStrike">
                <a:solidFill>
                  <a:srgbClr val="ff0000"/>
                </a:solidFill>
                <a:latin typeface="Adobe 黑体 Std R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矩形 16"/>
          <p:cNvSpPr/>
          <p:nvPr/>
        </p:nvSpPr>
        <p:spPr>
          <a:xfrm>
            <a:off x="1735200" y="2768760"/>
            <a:ext cx="71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help… with… 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表示“在某方面给予帮助”；主语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Lily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是第三人称单数，谓语动词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help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加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s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。故选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B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7" name="组合 22"/>
          <p:cNvGrpSpPr/>
          <p:nvPr/>
        </p:nvGrpSpPr>
        <p:grpSpPr>
          <a:xfrm>
            <a:off x="7189560" y="1125360"/>
            <a:ext cx="1710000" cy="368640"/>
            <a:chOff x="7189560" y="1125360"/>
            <a:chExt cx="1710000" cy="368640"/>
          </a:xfrm>
        </p:grpSpPr>
        <p:sp>
          <p:nvSpPr>
            <p:cNvPr id="658" name="矩形 22"/>
            <p:cNvSpPr/>
            <p:nvPr/>
          </p:nvSpPr>
          <p:spPr>
            <a:xfrm>
              <a:off x="7189560" y="1142640"/>
              <a:ext cx="1710000" cy="35136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文本框 17"/>
            <p:cNvSpPr/>
            <p:nvPr/>
          </p:nvSpPr>
          <p:spPr>
            <a:xfrm>
              <a:off x="7246440" y="11253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TextBox 4"/>
          <p:cNvSpPr/>
          <p:nvPr/>
        </p:nvSpPr>
        <p:spPr>
          <a:xfrm>
            <a:off x="933480" y="5079960"/>
            <a:ext cx="7866000" cy="6426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点拨</a:t>
            </a:r>
            <a:r>
              <a:rPr b="1" lang="zh-CN" sz="2400" spc="-1" strike="noStrike">
                <a:solidFill>
                  <a:srgbClr val="ff0000"/>
                </a:solidFill>
                <a:latin typeface="Adobe 黑体 Std R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矩形 18"/>
          <p:cNvSpPr/>
          <p:nvPr/>
        </p:nvSpPr>
        <p:spPr>
          <a:xfrm>
            <a:off x="1808280" y="5064120"/>
            <a:ext cx="71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主语是第一人称，谓语动词用动词原形。故选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C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0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1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文本框 2"/>
          <p:cNvSpPr/>
          <p:nvPr/>
        </p:nvSpPr>
        <p:spPr>
          <a:xfrm>
            <a:off x="-1898640" y="192564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Picture 12" descr="E:\QQ文件\小学点拨课件副本.gif"/>
          <p:cNvPicPr/>
          <p:nvPr/>
        </p:nvPicPr>
        <p:blipFill>
          <a:blip r:embed="rId1"/>
          <a:stretch/>
        </p:blipFill>
        <p:spPr>
          <a:xfrm>
            <a:off x="3411360" y="190440"/>
            <a:ext cx="2724480" cy="71460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13" descr=""/>
          <p:cNvPicPr/>
          <p:nvPr/>
        </p:nvPicPr>
        <p:blipFill>
          <a:blip r:embed="rId2"/>
          <a:stretch/>
        </p:blipFill>
        <p:spPr>
          <a:xfrm>
            <a:off x="4840200" y="2273400"/>
            <a:ext cx="4146480" cy="27162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14" descr=""/>
          <p:cNvPicPr/>
          <p:nvPr/>
        </p:nvPicPr>
        <p:blipFill>
          <a:blip r:embed="rId3"/>
          <a:stretch/>
        </p:blipFill>
        <p:spPr>
          <a:xfrm>
            <a:off x="736560" y="2046240"/>
            <a:ext cx="3772080" cy="29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663" name="TextBox 1"/>
          <p:cNvSpPr/>
          <p:nvPr/>
        </p:nvSpPr>
        <p:spPr>
          <a:xfrm>
            <a:off x="816120" y="1693800"/>
            <a:ext cx="77374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talk________ the phone ________ my m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in; wit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. on; wit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. with;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1720" y="19000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860400" y="3114720"/>
            <a:ext cx="7693200" cy="17398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点拨</a:t>
            </a:r>
            <a:r>
              <a:rPr b="1" lang="zh-CN" sz="2400" spc="-1" strike="noStrike">
                <a:solidFill>
                  <a:srgbClr val="ff0000"/>
                </a:solidFill>
                <a:latin typeface="Adobe 黑体 Std R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矩形 16"/>
          <p:cNvSpPr/>
          <p:nvPr/>
        </p:nvSpPr>
        <p:spPr>
          <a:xfrm>
            <a:off x="1735200" y="3098880"/>
            <a:ext cx="660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talk with/to sb.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意为“和某人谈话”，是固定搭配；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on the phone 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意为“通过电话”，符合题意。故选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B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7" name="组合 22"/>
          <p:cNvGrpSpPr/>
          <p:nvPr/>
        </p:nvGrpSpPr>
        <p:grpSpPr>
          <a:xfrm>
            <a:off x="7189560" y="1125360"/>
            <a:ext cx="1710000" cy="368640"/>
            <a:chOff x="7189560" y="1125360"/>
            <a:chExt cx="1710000" cy="368640"/>
          </a:xfrm>
        </p:grpSpPr>
        <p:sp>
          <p:nvSpPr>
            <p:cNvPr id="668" name="矩形 22"/>
            <p:cNvSpPr/>
            <p:nvPr/>
          </p:nvSpPr>
          <p:spPr>
            <a:xfrm>
              <a:off x="7189560" y="1142640"/>
              <a:ext cx="1710000" cy="35136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文本框 17"/>
            <p:cNvSpPr/>
            <p:nvPr/>
          </p:nvSpPr>
          <p:spPr>
            <a:xfrm>
              <a:off x="7246440" y="11253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4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671" name="TextBox 1"/>
          <p:cNvSpPr/>
          <p:nvPr/>
        </p:nvSpPr>
        <p:spPr>
          <a:xfrm>
            <a:off x="701640" y="1163520"/>
            <a:ext cx="7246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二、问句答语选一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1. What do you do at ho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2. What day is tod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3. What's she wear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4. Are these your book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Box 2"/>
          <p:cNvSpPr/>
          <p:nvPr/>
        </p:nvSpPr>
        <p:spPr>
          <a:xfrm>
            <a:off x="977760" y="2057400"/>
            <a:ext cx="45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3" name="组合 22"/>
          <p:cNvGrpSpPr/>
          <p:nvPr/>
        </p:nvGrpSpPr>
        <p:grpSpPr>
          <a:xfrm>
            <a:off x="7189560" y="1125360"/>
            <a:ext cx="1710000" cy="368640"/>
            <a:chOff x="7189560" y="1125360"/>
            <a:chExt cx="1710000" cy="368640"/>
          </a:xfrm>
        </p:grpSpPr>
        <p:sp>
          <p:nvSpPr>
            <p:cNvPr id="674" name="矩形 15"/>
            <p:cNvSpPr/>
            <p:nvPr/>
          </p:nvSpPr>
          <p:spPr>
            <a:xfrm>
              <a:off x="7189560" y="1142640"/>
              <a:ext cx="1710000" cy="35136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文本框 17"/>
            <p:cNvSpPr/>
            <p:nvPr/>
          </p:nvSpPr>
          <p:spPr>
            <a:xfrm>
              <a:off x="7246440" y="11253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6" name="TextBox 2"/>
          <p:cNvSpPr/>
          <p:nvPr/>
        </p:nvSpPr>
        <p:spPr>
          <a:xfrm>
            <a:off x="985680" y="2782800"/>
            <a:ext cx="4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Box 2"/>
          <p:cNvSpPr/>
          <p:nvPr/>
        </p:nvSpPr>
        <p:spPr>
          <a:xfrm>
            <a:off x="971640" y="3516480"/>
            <a:ext cx="46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Box 1"/>
          <p:cNvSpPr/>
          <p:nvPr/>
        </p:nvSpPr>
        <p:spPr>
          <a:xfrm>
            <a:off x="5375160" y="2425680"/>
            <a:ext cx="372132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e's wearing a ski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do my home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es, they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's Mon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Box 2"/>
          <p:cNvSpPr/>
          <p:nvPr/>
        </p:nvSpPr>
        <p:spPr>
          <a:xfrm>
            <a:off x="947880" y="4259160"/>
            <a:ext cx="46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0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681" name="TextBox 1"/>
          <p:cNvSpPr/>
          <p:nvPr/>
        </p:nvSpPr>
        <p:spPr>
          <a:xfrm>
            <a:off x="906480" y="1604880"/>
            <a:ext cx="7246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三、选择恰当的单词补全短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________ my mum and 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________ on the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Box 2"/>
          <p:cNvSpPr/>
          <p:nvPr/>
        </p:nvSpPr>
        <p:spPr>
          <a:xfrm>
            <a:off x="1549440" y="317808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3" name="组合 22"/>
          <p:cNvGrpSpPr/>
          <p:nvPr/>
        </p:nvGrpSpPr>
        <p:grpSpPr>
          <a:xfrm>
            <a:off x="7189560" y="1125360"/>
            <a:ext cx="1710000" cy="368640"/>
            <a:chOff x="7189560" y="1125360"/>
            <a:chExt cx="1710000" cy="368640"/>
          </a:xfrm>
        </p:grpSpPr>
        <p:sp>
          <p:nvSpPr>
            <p:cNvPr id="684" name="矩形 15"/>
            <p:cNvSpPr/>
            <p:nvPr/>
          </p:nvSpPr>
          <p:spPr>
            <a:xfrm>
              <a:off x="7189560" y="1142640"/>
              <a:ext cx="1710000" cy="35136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文本框 17"/>
            <p:cNvSpPr/>
            <p:nvPr/>
          </p:nvSpPr>
          <p:spPr>
            <a:xfrm>
              <a:off x="7246440" y="11253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6" name="TextBox 2"/>
          <p:cNvSpPr/>
          <p:nvPr/>
        </p:nvSpPr>
        <p:spPr>
          <a:xfrm>
            <a:off x="1514520" y="3927600"/>
            <a:ext cx="97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Box 2"/>
          <p:cNvSpPr/>
          <p:nvPr/>
        </p:nvSpPr>
        <p:spPr>
          <a:xfrm>
            <a:off x="1658880" y="2505240"/>
            <a:ext cx="288612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al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8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689" name="TextBox 3"/>
          <p:cNvSpPr/>
          <p:nvPr/>
        </p:nvSpPr>
        <p:spPr>
          <a:xfrm>
            <a:off x="1009800" y="1339920"/>
            <a:ext cx="713088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本节课我们学习了以下知识，请同学们一定加强巩固，以便能和同学们进行灵活交流哦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Box 3"/>
          <p:cNvSpPr/>
          <p:nvPr/>
        </p:nvSpPr>
        <p:spPr>
          <a:xfrm>
            <a:off x="1033560" y="2665440"/>
            <a:ext cx="7637400" cy="30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词汇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elp, talk, phone, friend, watch, after, din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句式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help my mum and 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talk on the phone with my frie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watch TV after dinn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at do you do at ho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矩形 4"/>
          <p:cNvSpPr/>
          <p:nvPr/>
        </p:nvSpPr>
        <p:spPr>
          <a:xfrm>
            <a:off x="0" y="0"/>
            <a:ext cx="922968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2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694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5" name="Picture 16" descr="꽃"/>
          <p:cNvPicPr/>
          <p:nvPr/>
        </p:nvPicPr>
        <p:blipFill>
          <a:blip r:embed="rId3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696" name="矩形 3"/>
          <p:cNvSpPr/>
          <p:nvPr/>
        </p:nvSpPr>
        <p:spPr>
          <a:xfrm>
            <a:off x="5582160" y="655308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Calibri"/>
                <a:ea typeface="宋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7" name="矩形 12" descr=""/>
          <p:cNvPicPr/>
          <p:nvPr/>
        </p:nvPicPr>
        <p:blipFill>
          <a:blip r:embed="rId4"/>
          <a:stretch/>
        </p:blipFill>
        <p:spPr>
          <a:xfrm>
            <a:off x="1928880" y="1328760"/>
            <a:ext cx="5394240" cy="15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Picture 18" descr="C:\Users\Administrator\Desktop\QQ截图20170613115356.png"/>
          <p:cNvPicPr/>
          <p:nvPr/>
        </p:nvPicPr>
        <p:blipFill>
          <a:blip r:embed="rId1"/>
          <a:stretch/>
        </p:blipFill>
        <p:spPr>
          <a:xfrm>
            <a:off x="671400" y="1038240"/>
            <a:ext cx="7605720" cy="3195720"/>
          </a:xfrm>
          <a:prstGeom prst="rect">
            <a:avLst/>
          </a:prstGeom>
          <a:ln w="0">
            <a:noFill/>
          </a:ln>
        </p:spPr>
      </p:pic>
      <p:pic>
        <p:nvPicPr>
          <p:cNvPr id="475" name="文本框 8" descr=""/>
          <p:cNvPicPr/>
          <p:nvPr/>
        </p:nvPicPr>
        <p:blipFill>
          <a:blip r:embed="rId2"/>
          <a:stretch/>
        </p:blipFill>
        <p:spPr>
          <a:xfrm>
            <a:off x="1681200" y="249120"/>
            <a:ext cx="6153120" cy="649440"/>
          </a:xfrm>
          <a:prstGeom prst="rect">
            <a:avLst/>
          </a:prstGeom>
          <a:ln w="0">
            <a:noFill/>
          </a:ln>
        </p:spPr>
      </p:pic>
      <p:sp>
        <p:nvSpPr>
          <p:cNvPr id="476" name="TextBox 1"/>
          <p:cNvSpPr/>
          <p:nvPr/>
        </p:nvSpPr>
        <p:spPr>
          <a:xfrm>
            <a:off x="857160" y="2257560"/>
            <a:ext cx="36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 help my mum and 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1"/>
          <p:cNvSpPr/>
          <p:nvPr/>
        </p:nvSpPr>
        <p:spPr>
          <a:xfrm>
            <a:off x="2001960" y="5535720"/>
            <a:ext cx="97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1"/>
          <p:cNvSpPr/>
          <p:nvPr/>
        </p:nvSpPr>
        <p:spPr>
          <a:xfrm>
            <a:off x="4475160" y="2259000"/>
            <a:ext cx="46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 talk on the phone with my frie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1"/>
          <p:cNvSpPr/>
          <p:nvPr/>
        </p:nvSpPr>
        <p:spPr>
          <a:xfrm>
            <a:off x="868320" y="3987720"/>
            <a:ext cx="36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 watch TV after dinn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1"/>
          <p:cNvSpPr/>
          <p:nvPr/>
        </p:nvSpPr>
        <p:spPr>
          <a:xfrm>
            <a:off x="4519440" y="3981600"/>
            <a:ext cx="36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 play on the compu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19" descr="C:\Users\Administrator\Desktop\QQ截图20170613115034.png"/>
          <p:cNvPicPr/>
          <p:nvPr/>
        </p:nvPicPr>
        <p:blipFill>
          <a:blip r:embed="rId3"/>
          <a:stretch/>
        </p:blipFill>
        <p:spPr>
          <a:xfrm>
            <a:off x="1552680" y="4448160"/>
            <a:ext cx="1466640" cy="107964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20" descr="C:\Users\Administrator\Desktop\QQ截图20170613115050.png"/>
          <p:cNvPicPr/>
          <p:nvPr/>
        </p:nvPicPr>
        <p:blipFill>
          <a:blip r:embed="rId4"/>
          <a:stretch/>
        </p:blipFill>
        <p:spPr>
          <a:xfrm>
            <a:off x="3816360" y="4454640"/>
            <a:ext cx="1461960" cy="10810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21" descr="C:\Users\Administrator\Desktop\QQ截图20170613115104.png"/>
          <p:cNvPicPr/>
          <p:nvPr/>
        </p:nvPicPr>
        <p:blipFill>
          <a:blip r:embed="rId5"/>
          <a:stretch/>
        </p:blipFill>
        <p:spPr>
          <a:xfrm>
            <a:off x="5595840" y="4508640"/>
            <a:ext cx="1546200" cy="1079280"/>
          </a:xfrm>
          <a:prstGeom prst="rect">
            <a:avLst/>
          </a:prstGeom>
          <a:ln w="0">
            <a:noFill/>
          </a:ln>
        </p:spPr>
      </p:pic>
      <p:sp>
        <p:nvSpPr>
          <p:cNvPr id="484" name="TextBox 1"/>
          <p:cNvSpPr/>
          <p:nvPr/>
        </p:nvSpPr>
        <p:spPr>
          <a:xfrm>
            <a:off x="3832200" y="5483160"/>
            <a:ext cx="130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1"/>
          <p:cNvSpPr/>
          <p:nvPr/>
        </p:nvSpPr>
        <p:spPr>
          <a:xfrm>
            <a:off x="5892840" y="5468760"/>
            <a:ext cx="130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487" name="文本框 17"/>
          <p:cNvSpPr/>
          <p:nvPr/>
        </p:nvSpPr>
        <p:spPr>
          <a:xfrm>
            <a:off x="2452680" y="1374840"/>
            <a:ext cx="650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I help my mum and dad.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我帮助我的妈妈和爸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圆角矩形 18"/>
          <p:cNvSpPr/>
          <p:nvPr/>
        </p:nvSpPr>
        <p:spPr>
          <a:xfrm>
            <a:off x="631800" y="1496880"/>
            <a:ext cx="177804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文本框 19"/>
          <p:cNvSpPr/>
          <p:nvPr/>
        </p:nvSpPr>
        <p:spPr>
          <a:xfrm>
            <a:off x="974880" y="1467000"/>
            <a:ext cx="17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8"/>
          <p:cNvSpPr/>
          <p:nvPr/>
        </p:nvSpPr>
        <p:spPr>
          <a:xfrm>
            <a:off x="2127240" y="2019240"/>
            <a:ext cx="518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08200" indent="-8082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/help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v.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动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帮助；协助；援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图片 9" descr="book.gif"/>
          <p:cNvPicPr/>
          <p:nvPr/>
        </p:nvPicPr>
        <p:blipFill>
          <a:blip r:embed="rId2"/>
          <a:stretch/>
        </p:blipFill>
        <p:spPr>
          <a:xfrm>
            <a:off x="-66600" y="1389240"/>
            <a:ext cx="1087200" cy="66672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20" descr=""/>
          <p:cNvPicPr/>
          <p:nvPr/>
        </p:nvPicPr>
        <p:blipFill>
          <a:blip r:embed="rId3"/>
          <a:stretch/>
        </p:blipFill>
        <p:spPr>
          <a:xfrm>
            <a:off x="858960" y="2082960"/>
            <a:ext cx="1371600" cy="581040"/>
          </a:xfrm>
          <a:prstGeom prst="rect">
            <a:avLst/>
          </a:prstGeom>
          <a:ln w="0">
            <a:noFill/>
          </a:ln>
        </p:spPr>
      </p:pic>
      <p:sp>
        <p:nvSpPr>
          <p:cNvPr id="495" name="矩形 1"/>
          <p:cNvSpPr/>
          <p:nvPr/>
        </p:nvSpPr>
        <p:spPr>
          <a:xfrm>
            <a:off x="753480" y="27687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矩形 22"/>
          <p:cNvSpPr/>
          <p:nvPr/>
        </p:nvSpPr>
        <p:spPr>
          <a:xfrm>
            <a:off x="1433520" y="2522520"/>
            <a:ext cx="7394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help my brother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帮助我的弟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elp… with…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表示“在某方面给予帮助”，如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om can help me with my English.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汤姆能帮助我学英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; help sb.(to)do sth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表示“帮助某人做某事”，如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help my mother do the housework.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帮助妈妈做家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图片 18" descr=""/>
          <p:cNvPicPr/>
          <p:nvPr/>
        </p:nvPicPr>
        <p:blipFill>
          <a:blip r:embed="rId4"/>
          <a:stretch/>
        </p:blipFill>
        <p:spPr>
          <a:xfrm>
            <a:off x="372960" y="3540240"/>
            <a:ext cx="324000" cy="368280"/>
          </a:xfrm>
          <a:prstGeom prst="rect">
            <a:avLst/>
          </a:prstGeom>
          <a:ln w="0">
            <a:noFill/>
          </a:ln>
        </p:spPr>
      </p:pic>
      <p:sp>
        <p:nvSpPr>
          <p:cNvPr id="498" name="矩形 16"/>
          <p:cNvSpPr/>
          <p:nvPr/>
        </p:nvSpPr>
        <p:spPr>
          <a:xfrm>
            <a:off x="794880" y="338940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拓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500" name="矩形 1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矩形 2"/>
          <p:cNvSpPr/>
          <p:nvPr/>
        </p:nvSpPr>
        <p:spPr>
          <a:xfrm>
            <a:off x="1890720" y="2355840"/>
            <a:ext cx="6143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y dad is very tall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的爸爸很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um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妈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8"/>
          <p:cNvSpPr/>
          <p:nvPr/>
        </p:nvSpPr>
        <p:spPr>
          <a:xfrm>
            <a:off x="2052720" y="1434960"/>
            <a:ext cx="534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/dæd 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n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名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爸爸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非正式用语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矩形 1"/>
          <p:cNvSpPr/>
          <p:nvPr/>
        </p:nvSpPr>
        <p:spPr>
          <a:xfrm>
            <a:off x="712800" y="3406680"/>
            <a:ext cx="115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对应词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矩形 1"/>
          <p:cNvSpPr/>
          <p:nvPr/>
        </p:nvSpPr>
        <p:spPr>
          <a:xfrm>
            <a:off x="995400" y="2498760"/>
            <a:ext cx="95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15" descr=""/>
          <p:cNvPicPr/>
          <p:nvPr/>
        </p:nvPicPr>
        <p:blipFill>
          <a:blip r:embed="rId2"/>
          <a:stretch/>
        </p:blipFill>
        <p:spPr>
          <a:xfrm>
            <a:off x="809640" y="1677960"/>
            <a:ext cx="1409760" cy="58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508" name="文本框 17"/>
          <p:cNvSpPr/>
          <p:nvPr/>
        </p:nvSpPr>
        <p:spPr>
          <a:xfrm>
            <a:off x="3090960" y="1623960"/>
            <a:ext cx="484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I talk on the phone with my frie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我通过电话和我的朋友们交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圆角矩形 18"/>
          <p:cNvSpPr/>
          <p:nvPr/>
        </p:nvSpPr>
        <p:spPr>
          <a:xfrm>
            <a:off x="1168560" y="1743120"/>
            <a:ext cx="177768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文本框 19"/>
          <p:cNvSpPr/>
          <p:nvPr/>
        </p:nvSpPr>
        <p:spPr>
          <a:xfrm>
            <a:off x="1506600" y="1712880"/>
            <a:ext cx="15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图片 9" descr="book.gif"/>
          <p:cNvPicPr/>
          <p:nvPr/>
        </p:nvPicPr>
        <p:blipFill>
          <a:blip r:embed="rId2"/>
          <a:stretch/>
        </p:blipFill>
        <p:spPr>
          <a:xfrm>
            <a:off x="465120" y="1644480"/>
            <a:ext cx="1087560" cy="667080"/>
          </a:xfrm>
          <a:prstGeom prst="rect">
            <a:avLst/>
          </a:prstGeom>
          <a:ln w="0">
            <a:noFill/>
          </a:ln>
        </p:spPr>
      </p:pic>
      <p:sp>
        <p:nvSpPr>
          <p:cNvPr id="514" name="矩形 1"/>
          <p:cNvSpPr/>
          <p:nvPr/>
        </p:nvSpPr>
        <p:spPr>
          <a:xfrm>
            <a:off x="1658880" y="35640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8"/>
          <p:cNvSpPr/>
          <p:nvPr/>
        </p:nvSpPr>
        <p:spPr>
          <a:xfrm>
            <a:off x="2670120" y="2749680"/>
            <a:ext cx="417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/tɔːk 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v.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动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交谈；讨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矩形 1"/>
          <p:cNvSpPr/>
          <p:nvPr/>
        </p:nvSpPr>
        <p:spPr>
          <a:xfrm>
            <a:off x="2622600" y="3319560"/>
            <a:ext cx="4862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et's have a talk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让我们谈一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alk with/to sb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和某人谈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alk about sth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谈论某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26" descr=""/>
          <p:cNvPicPr/>
          <p:nvPr/>
        </p:nvPicPr>
        <p:blipFill>
          <a:blip r:embed="rId3"/>
          <a:stretch/>
        </p:blipFill>
        <p:spPr>
          <a:xfrm>
            <a:off x="1407960" y="2860560"/>
            <a:ext cx="1381320" cy="590760"/>
          </a:xfrm>
          <a:prstGeom prst="rect">
            <a:avLst/>
          </a:prstGeom>
          <a:ln w="0">
            <a:noFill/>
          </a:ln>
        </p:spPr>
      </p:pic>
      <p:sp>
        <p:nvSpPr>
          <p:cNvPr id="518" name="矩形 1"/>
          <p:cNvSpPr/>
          <p:nvPr/>
        </p:nvSpPr>
        <p:spPr>
          <a:xfrm>
            <a:off x="1670040" y="42829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短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520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8"/>
          <p:cNvSpPr/>
          <p:nvPr/>
        </p:nvSpPr>
        <p:spPr>
          <a:xfrm>
            <a:off x="2116080" y="3776760"/>
            <a:ext cx="595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e often talk________ the ph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o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. o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.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矩形 1"/>
          <p:cNvSpPr/>
          <p:nvPr/>
        </p:nvSpPr>
        <p:spPr>
          <a:xfrm>
            <a:off x="1154160" y="22716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Box 8"/>
          <p:cNvSpPr/>
          <p:nvPr/>
        </p:nvSpPr>
        <p:spPr>
          <a:xfrm>
            <a:off x="2197080" y="1457280"/>
            <a:ext cx="417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/fəʊn 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n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名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电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组合 26"/>
          <p:cNvGrpSpPr/>
          <p:nvPr/>
        </p:nvGrpSpPr>
        <p:grpSpPr>
          <a:xfrm>
            <a:off x="895320" y="3881520"/>
            <a:ext cx="1244520" cy="459720"/>
            <a:chOff x="895320" y="3881520"/>
            <a:chExt cx="1244520" cy="459720"/>
          </a:xfrm>
        </p:grpSpPr>
        <p:sp>
          <p:nvSpPr>
            <p:cNvPr id="526" name="TextBox 3"/>
            <p:cNvSpPr/>
            <p:nvPr/>
          </p:nvSpPr>
          <p:spPr>
            <a:xfrm>
              <a:off x="1148040" y="3881520"/>
              <a:ext cx="99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典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7" name="图片 29" descr="花盆.png"/>
            <p:cNvPicPr/>
            <p:nvPr/>
          </p:nvPicPr>
          <p:blipFill>
            <a:blip r:embed="rId2"/>
            <a:stretch/>
          </p:blipFill>
          <p:spPr>
            <a:xfrm>
              <a:off x="895320" y="3914280"/>
              <a:ext cx="324000" cy="368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8" name="TextBox 24"/>
          <p:cNvSpPr/>
          <p:nvPr/>
        </p:nvSpPr>
        <p:spPr>
          <a:xfrm>
            <a:off x="4357800" y="3895560"/>
            <a:ext cx="5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Box 4"/>
          <p:cNvSpPr/>
          <p:nvPr/>
        </p:nvSpPr>
        <p:spPr>
          <a:xfrm>
            <a:off x="1033560" y="5051520"/>
            <a:ext cx="7692840" cy="6426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点拨</a:t>
            </a:r>
            <a:r>
              <a:rPr b="1" lang="zh-CN" sz="2400" spc="-1" strike="noStrike">
                <a:solidFill>
                  <a:srgbClr val="ff0000"/>
                </a:solidFill>
                <a:latin typeface="Adobe 黑体 Std R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矩形 27"/>
          <p:cNvSpPr/>
          <p:nvPr/>
        </p:nvSpPr>
        <p:spPr>
          <a:xfrm>
            <a:off x="1908000" y="5035680"/>
            <a:ext cx="681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talk on the phone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意为“通过电话交谈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矩形 1"/>
          <p:cNvSpPr/>
          <p:nvPr/>
        </p:nvSpPr>
        <p:spPr>
          <a:xfrm>
            <a:off x="2116080" y="2027160"/>
            <a:ext cx="7296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at's your phone number?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你的电话号码是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hone number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电话号码 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n the phon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通过电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2" descr=""/>
          <p:cNvPicPr/>
          <p:nvPr/>
        </p:nvPicPr>
        <p:blipFill>
          <a:blip r:embed="rId3"/>
          <a:stretch/>
        </p:blipFill>
        <p:spPr>
          <a:xfrm>
            <a:off x="919080" y="1522440"/>
            <a:ext cx="1381320" cy="581040"/>
          </a:xfrm>
          <a:prstGeom prst="rect">
            <a:avLst/>
          </a:prstGeom>
          <a:ln w="0">
            <a:noFill/>
          </a:ln>
        </p:spPr>
      </p:pic>
      <p:sp>
        <p:nvSpPr>
          <p:cNvPr id="533" name="矩形 1"/>
          <p:cNvSpPr/>
          <p:nvPr/>
        </p:nvSpPr>
        <p:spPr>
          <a:xfrm>
            <a:off x="1158840" y="299556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短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535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Box 8"/>
          <p:cNvSpPr/>
          <p:nvPr/>
        </p:nvSpPr>
        <p:spPr>
          <a:xfrm>
            <a:off x="2446200" y="1992240"/>
            <a:ext cx="5658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e are good friends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们是好朋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ri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good friend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好朋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ake friends with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交朋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r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＋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nd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结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＝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riend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朋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矩形 1"/>
          <p:cNvSpPr/>
          <p:nvPr/>
        </p:nvSpPr>
        <p:spPr>
          <a:xfrm>
            <a:off x="1629720" y="2970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复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矩形 2"/>
          <p:cNvSpPr/>
          <p:nvPr/>
        </p:nvSpPr>
        <p:spPr>
          <a:xfrm>
            <a:off x="1667880" y="22255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Box 8"/>
          <p:cNvSpPr/>
          <p:nvPr/>
        </p:nvSpPr>
        <p:spPr>
          <a:xfrm>
            <a:off x="2487600" y="1405080"/>
            <a:ext cx="523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/frend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n.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名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朋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矩形 8"/>
          <p:cNvSpPr/>
          <p:nvPr/>
        </p:nvSpPr>
        <p:spPr>
          <a:xfrm>
            <a:off x="1014840" y="51577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黑体"/>
              </a:rPr>
              <a:t>加法记忆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21" descr=""/>
          <p:cNvPicPr/>
          <p:nvPr/>
        </p:nvPicPr>
        <p:blipFill>
          <a:blip r:embed="rId2"/>
          <a:stretch/>
        </p:blipFill>
        <p:spPr>
          <a:xfrm>
            <a:off x="1233360" y="1504800"/>
            <a:ext cx="1381320" cy="600120"/>
          </a:xfrm>
          <a:prstGeom prst="rect">
            <a:avLst/>
          </a:prstGeom>
          <a:ln w="0">
            <a:noFill/>
          </a:ln>
        </p:spPr>
      </p:pic>
      <p:sp>
        <p:nvSpPr>
          <p:cNvPr id="543" name="矩形 1"/>
          <p:cNvSpPr/>
          <p:nvPr/>
        </p:nvSpPr>
        <p:spPr>
          <a:xfrm>
            <a:off x="1667880" y="37162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短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" dur="500"/>
                                        <p:tgtEl>
                                          <p:spTgt spid="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545" name="文本框 17"/>
          <p:cNvSpPr/>
          <p:nvPr/>
        </p:nvSpPr>
        <p:spPr>
          <a:xfrm>
            <a:off x="3647160" y="1344600"/>
            <a:ext cx="30351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I watch TV after dinner.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我在晚饭后看电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圆角矩形 18"/>
          <p:cNvSpPr/>
          <p:nvPr/>
        </p:nvSpPr>
        <p:spPr>
          <a:xfrm>
            <a:off x="736560" y="1401840"/>
            <a:ext cx="177804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文本框 19"/>
          <p:cNvSpPr/>
          <p:nvPr/>
        </p:nvSpPr>
        <p:spPr>
          <a:xfrm>
            <a:off x="1076400" y="1407960"/>
            <a:ext cx="143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Box 8"/>
          <p:cNvSpPr/>
          <p:nvPr/>
        </p:nvSpPr>
        <p:spPr>
          <a:xfrm>
            <a:off x="1924200" y="2543040"/>
            <a:ext cx="73310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They watch TV at home.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他们在家看电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watch TV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看电视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watch games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看比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watch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还可以作名词，意为“手表”，其复数形式为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watches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watch →watches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第三人称单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look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看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see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看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图片 9" descr="book.gif"/>
          <p:cNvPicPr/>
          <p:nvPr/>
        </p:nvPicPr>
        <p:blipFill>
          <a:blip r:embed="rId2"/>
          <a:stretch/>
        </p:blipFill>
        <p:spPr>
          <a:xfrm>
            <a:off x="-4680" y="1274760"/>
            <a:ext cx="1087200" cy="666720"/>
          </a:xfrm>
          <a:prstGeom prst="rect">
            <a:avLst/>
          </a:prstGeom>
          <a:ln w="0">
            <a:noFill/>
          </a:ln>
        </p:spPr>
      </p:pic>
      <p:sp>
        <p:nvSpPr>
          <p:cNvPr id="552" name="矩形 1"/>
          <p:cNvSpPr/>
          <p:nvPr/>
        </p:nvSpPr>
        <p:spPr>
          <a:xfrm>
            <a:off x="1282680" y="3379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短语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矩形 2"/>
          <p:cNvSpPr/>
          <p:nvPr/>
        </p:nvSpPr>
        <p:spPr>
          <a:xfrm>
            <a:off x="1289880" y="27446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8"/>
          <p:cNvSpPr/>
          <p:nvPr/>
        </p:nvSpPr>
        <p:spPr>
          <a:xfrm>
            <a:off x="2330280" y="1971720"/>
            <a:ext cx="52311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/wɒtʃ/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v.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 (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动词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看；注视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[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四会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Picture 2" descr=""/>
          <p:cNvPicPr/>
          <p:nvPr/>
        </p:nvPicPr>
        <p:blipFill>
          <a:blip r:embed="rId3"/>
          <a:stretch/>
        </p:blipFill>
        <p:spPr>
          <a:xfrm>
            <a:off x="919080" y="2014560"/>
            <a:ext cx="1381320" cy="600120"/>
          </a:xfrm>
          <a:prstGeom prst="rect">
            <a:avLst/>
          </a:prstGeom>
          <a:ln w="0">
            <a:noFill/>
          </a:ln>
        </p:spPr>
      </p:pic>
      <p:sp>
        <p:nvSpPr>
          <p:cNvPr id="556" name="矩形 1"/>
          <p:cNvSpPr/>
          <p:nvPr/>
        </p:nvSpPr>
        <p:spPr>
          <a:xfrm>
            <a:off x="1153080" y="395460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一词多义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矩形 1"/>
          <p:cNvSpPr/>
          <p:nvPr/>
        </p:nvSpPr>
        <p:spPr>
          <a:xfrm>
            <a:off x="894600" y="45799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词形变化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1"/>
          <p:cNvSpPr/>
          <p:nvPr/>
        </p:nvSpPr>
        <p:spPr>
          <a:xfrm>
            <a:off x="1077840" y="51703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近义词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5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5T00:46:43Z</dcterms:created>
  <dc:creator>apple apple</dc:creator>
  <dc:description/>
  <dc:language>en-US</dc:language>
  <cp:lastModifiedBy>相忘于江湖</cp:lastModifiedBy>
  <dcterms:modified xsi:type="dcterms:W3CDTF">2017-12-06T15:15:11Z</dcterms:modified>
  <cp:revision>65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023</vt:lpwstr>
  </property>
</Properties>
</file>